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467-7BD5-4F21-B135-4055046B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26E-B0B5-4B93-B44F-647B0782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A40-6862-4CA4-A106-10B898B9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5F6-79E0-46D8-A28E-284728BD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2C50-C6D2-4A27-9062-71E39427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890C-1947-4119-AFF2-793C2C75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E4A4-40D6-480A-8FAB-D5135DE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8A1F-B998-46D8-975A-1C73E5CD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57A-7583-4E1D-BB51-EAAE835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7886-C2D8-47CE-AF1E-1570063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BE6-22B9-4B01-92FF-48478AD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C23-B4F4-438F-A187-7F9365D2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9390-C7CB-4B9C-AF11-4A381FA7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5D09-EC6D-48D4-A7A9-D74A4BA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75ED-E7BB-468B-98CF-6B6848FC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13C7-7D45-45D1-BB42-E7FAB3A6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47F-94E6-4B50-84B8-24AFF1A2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40A-80D6-438B-BDE2-55CCD89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39C-2302-4039-AF25-43DFA2F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BAD-1BE3-4C65-B2A2-F5CE34CF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813-46A6-4A61-BB1A-3AFF2017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A92-E51E-4C97-AAF8-80B752B1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A85-2017-476C-98ED-B8D6C27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031-459A-4AA6-9A76-6E24AAD8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AB1-8884-40E5-A419-3347525A75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6068-DD04-4833-B38B-A7C29F188D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tone 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Based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o not score proficient or above on the Keystone Exam after having taken the test at least twice, may choose to complete a Project-Based Assessment for the modules they did not p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BA is not meant to be easier.  It assesses the same Eligible Content at the same DOK as the Keystone Ex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is a T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only work on the project at school.  This includes any student in cyber school or a student who is homeschoo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have a monitor to sign them into the website and remain present while they work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itor can be an a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s are assigned to each student and should be certified in the content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is a Test (Continued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s cannot actually help students with the content of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s can point students toward practice problems in the eligible content and provide some remediation based on student need in a particular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tor must review the project at set checkpoints and “sign off” on the project before it is sent to the state for sc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me Constraint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complete a project for each non-proficient mo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ject is supposed to take 5-7 hours to comple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rame to complete each project is determined by the distr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As will be scored by statewide panels composed of teachers, principals, and curriculum specialist assembled by P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will be scored according to rubrics developed by P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scored by two scorers.  A third scorer will be added if the two initial scores do not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scored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satisfa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oring (Continued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take the Keystone Exam even if they have started a project.  If they pass the Keystone, the project does not need to be sub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tudent received an Unsatisfactory score on a project, the project will be returned for corr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eacher can apply to be a PBA evalu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cessing Proj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complete the project onli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ay use an outside source to complete a problem (example: a graph in math) and this must be uploaded in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login for the test is good for one hour and work is saved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7:49:46Z</dcterms:created>
  <dc:creator>Stacey Meckes</dc:creator>
  <dc:description/>
  <dc:language>en-US</dc:language>
  <cp:lastModifiedBy>Stacey Meckes</cp:lastModifiedBy>
  <dcterms:modified xsi:type="dcterms:W3CDTF">2014-03-10T18:24:12Z</dcterms:modified>
  <cp:revision>2</cp:revision>
  <dc:subject/>
  <dc:title>Keystone Exams</dc:title>
</cp:coreProperties>
</file>